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0E0A-D8DC-4285-8D81-E2C9DD621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F908-D611-4405-841A-654F29A4A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F06-2137-4AD2-81D9-734B2607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F95-3CC0-4E6D-92A5-8C0E2A16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9F8-B0F2-405D-BCEB-EEB52960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9C6-D1A1-4A04-9A14-FF97F35A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294-7611-4B91-A4D0-E5EF0983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8F4-1559-49E0-9E27-F8E4284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0D5-F621-4A80-9067-9BA8A18D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097-5337-4ECB-A962-2C87EBF2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E15-E09E-4D04-BE72-DE68F21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86C-54B4-4C6D-A143-8B3C534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C64-998B-4175-A8E0-AACC97C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07D-DD9B-4DE1-A398-0E6D71D5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7E3-88A5-4B3A-870A-605477A5F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piece of blank paper to create your own “Piece of the Pie” foldabl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Langston Hugh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(use pgs. 898-900 &amp; write facts from each par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Before You Rea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(define speaker, social perspective, archetypal perspective, biographical perspective –pg9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Summa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(choose one of Hughes’ poems and write a one paragraph interpretation or a summary; include at least one literary devi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Critical Questions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(answer questions for one of Hughes’ poems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AutoShape 21"/>
          <p:cNvSpPr/>
          <p:nvPr/>
        </p:nvSpPr>
        <p:spPr>
          <a:xfrm>
            <a:off x="3048120" y="213372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362320" y="29728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Langston Hug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59:17Z</dcterms:created>
  <dc:creator>nvasquez</dc:creator>
  <dc:description/>
  <dc:language>en-US</dc:language>
  <cp:lastModifiedBy>Nvasquez</cp:lastModifiedBy>
  <dcterms:modified xsi:type="dcterms:W3CDTF">2010-11-08T15:10:01Z</dcterms:modified>
  <cp:revision>5</cp:revision>
  <dc:subject/>
  <dc:title>Pearson Unit 4</dc:title>
</cp:coreProperties>
</file>